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3F3-B693-4AEA-AF0D-72A9CECA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0B7-9B32-4E36-B9E4-C876907B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8E3-F9CC-4E40-814B-41B1D837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755-8500-4F21-9DF0-E874FF9D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077-7F43-455A-92A1-CEB3E7BF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77C-6108-4FA8-9451-47B62972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4BE-0BE6-4333-9604-09DFA60C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F26-098C-4D13-9B7B-FF95D1B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CC7-53D4-4B62-8E4E-F4F71CE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A16-45B5-403C-81A5-0432F9BB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2E0-D141-4FF5-BCDD-FF828AE7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CC0-A969-4B9B-9CEA-FED9C586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44CC-9335-4A6F-B97A-F3BCC427B8C2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EE0C-CCA9-440C-903C-99FEAB3EB8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5748-2164-428C-8977-69441703FF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6ff66"/>
                </a:solidFill>
                <a:latin typeface="Calibri"/>
              </a:rPr>
              <a:t>ロールプレイにおける</a:t>
            </a:r>
            <a:br>
              <a:rPr sz="4000"/>
            </a:br>
            <a:r>
              <a:rPr b="0" lang="ja-JP" sz="4000" spc="-1" strike="noStrike">
                <a:solidFill>
                  <a:srgbClr val="66ff66"/>
                </a:solidFill>
                <a:latin typeface="Calibri"/>
              </a:rPr>
              <a:t>監督の役割と方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１）シナリオを作る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メンバーからエピソードを抽出します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２）シナリオ、エピソードの内容を確認します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（ホワイトボードなどにストーリを書く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３）キャスティングをします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（プレイヤーを決める）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自発性を尊重しますが、場合によっては監督が指名します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3F54-63D5-4F81-A50E-17B20E2683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507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それではやってみましょ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ロールプレイを学ぶには体験してみることが一番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ロングバケーション"/>
          <p:cNvPicPr/>
          <p:nvPr/>
        </p:nvPicPr>
        <p:blipFill>
          <a:blip r:embed="rId1"/>
          <a:stretch/>
        </p:blipFill>
        <p:spPr>
          <a:xfrm>
            <a:off x="2124000" y="2519280"/>
            <a:ext cx="5977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84B7-36E2-433E-80A3-E116A14C64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66ff66"/>
                </a:solidFill>
                <a:latin typeface="Calibri"/>
              </a:rPr>
              <a:t>プレ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１）手を叩いてスタートします。「スタート！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２）「ありのまま段階」が終わったら手を叩いていったん終結。「こうしよう段階」をどう進めるか決め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＊　決め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　　①　演者の考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　　②　観客の考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　　③　監督の考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BE8E-AEE7-4848-AB6A-23B49F01A7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３）　プレイヤーが困っているときは助けま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～と言ってみてください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「～してみてください」と指示を出し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場合によってはいったん中断して指示を与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えます。また、プレイヤーをチェンジします。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決してプレイヤーに無理はさせない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監督は笑顔で余裕をもって応対して下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91EB-6952-4783-8114-0F4DF960AD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）分からないところ、疑問に感じたこと、気になった演者の発言や行動はメモしておき、シェアリングのときに確認し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「○○と言われたのは何を確認したかったのですか？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「○○と言われてどう感じましたか？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演者が意識せずに行った言動について気づかせる。また、言動の影響・意味について確認する。「○○さんが～とおっしゃられて利用者さんはどうしましたか？」「○○さんは△△さんに～と言われてどう感じましたか？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E6DE-0A0B-4A82-9C9A-A7FEF85CA6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５）　演者が行き詰まったり、続けるのがつらそうだった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り、演者が興奮してきたりしたときは手を叩いて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断し、次のような時間をつくり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①　演者に、今の率直な気持をきいてみ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②　演者に独り言を語ってもらう。「ああ、わけわかん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なくなっちゃったよ」「あんなこと言わなくてもい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じゃない」とか・・・。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③　演者にこれからどう進めようと思うかし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らく考えて整理してもら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④　観客にこれからどう進めるか聞いてみ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270-717A-4A39-8576-A3FDA6704F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６）　中断の後の展開を指示しま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７）　適当なところで手を叩いて終了しま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８）　演者に感謝の拍手をします。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4DA3-8F53-485C-BB80-ECF98BE6C0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66ff66"/>
                </a:solidFill>
                <a:latin typeface="Calibri"/>
              </a:rPr>
              <a:t>シェアリング（ファシリテーターとしての監督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１）　シェアリングを導きます。ルールを説明し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メンバーの自発的発言を待ちます。発言がないときは、まずプレイヤーから発言してもら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）　発言をくりかえし内容を確認します。「～とかんじたんですね？」「～ということですね？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）　発言は肯定的に受け止めます。他のメンバー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対する批判や非難は止め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CE73-239D-4B05-9E56-4AD5C68BBF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）メンバーが共通して感じたことなど、もう少し深めてみたいテーマが出てきたら、しばらくそのテーマについて話してみ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５）メンバーの体験を分かち合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「～と感じた方が多いようですね」「なぜそうかんじたのでしょうね？」「どうしたら良いでしょう？」「どなたか同じような体験をされた方はおられますか？」「そのときはどうされましたか？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4347-C17E-4740-A33C-22E2C6D562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６）　シェアリングで出された展開で有効だな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思ったらその都度ロールプレイを取り入れ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確認し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７）　最後にまとめと若干のコメントをします。結論を一つにまとめる必要はありません。さまざまな捉え方があることへの気づきを促します。監督がコメントをせずに別にコメンテイター（助言者）を決めておいても良いで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8:43:58Z</dcterms:created>
  <dc:creator>会津大学短期大学部</dc:creator>
  <dc:description/>
  <dc:language>en-US</dc:language>
  <cp:lastModifiedBy>pc14</cp:lastModifiedBy>
  <dcterms:modified xsi:type="dcterms:W3CDTF">2012-01-13T11:34:38Z</dcterms:modified>
  <cp:revision>5</cp:revision>
  <dc:subject/>
  <dc:title>ロールプレイにおける 監督の役割と方法</dc:title>
</cp:coreProperties>
</file>